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786-AB27-47D0-8E96-40995F38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2E5-B8AB-4253-A401-DFA3CE5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ED1-DE93-4706-8BF9-FE8C5E45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899-9A60-442F-9128-0DCDA72C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75FFE-2CE6-47FE-B4B9-B1109BFA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4F86B-82A9-4F8A-9161-6EEDA818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0FAB7-CF83-47CC-839E-C84C3C1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B837D-49BE-44E3-AA67-F955BCB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CA794-F491-422B-9E96-231E27ED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16D8F-F0B6-4AC4-8840-BAB47EC4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F51A1-6B9D-4513-A457-31380E0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2B4-0B19-4345-82FB-EEDF367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2F36A-0FC4-447B-A0E9-E5EBCC5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7F86E-6DFF-4F97-9740-D86ED612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E4E26-1EFB-497D-B8CA-DFFDC16E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D10CF-91BE-4A9A-8B1A-BB0D78E0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D5C3B-4170-40FB-A4DD-CB6F7B80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7D6-DB9D-40A8-99F8-2BD9FCB3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387-06B3-4FB8-BF98-E1FA20C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EC8-8359-4315-8E33-B8F67317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E03-26C8-4DF4-B9F2-4F355F8C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EEA-2FB4-41CE-8F21-C71ED43E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7AC-1544-4604-A9FE-202532A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F0C-1D6A-4D8A-9633-A887BA4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03ED-0966-4CA7-99A3-081996A195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E419-7C72-445E-8DAB-9C52615D37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333360"/>
            <a:ext cx="4753080" cy="9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XX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radas de dulce embrujo de am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han llenado el alma, más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grana de esa bo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ún al censor es sag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el corazón de esa cier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e ablanda, posará el mí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su rebaño no cu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i ve que el mío se ha huí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la es todo para 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para mí, y la he perd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Éstas son, ay mis censo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 amor señas declar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uspiros abrasado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nque se aneguen en lágrima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0"/>
            <a:ext cx="4248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s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alle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arga sobre mí me abru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yo vele y ella duer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conduce a la loc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halla el corazón respi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anto amor y amarg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ja de mi ser un po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(ni creo que a quedar vay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y así  verás a qué extre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conduce mi desgra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ía, al lado de Hauzáni, es la flecha ganadora.¡Oh sable fino del Yemen al que sus hazañas doran; ángel con semblante humano que la descripción desbord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eón de las espesur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uerte que plazos señal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rora que, cuando brill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l mundo entero engalan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0"/>
            <a:ext cx="72007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bu Hafs, párate un pun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agias te recito: atien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i se gloria el imper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un corazón bravo y fue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mío toma en albrici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a tu lado has de acoger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Para nutrir a los homb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ios te hizo a ti pura dád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Tanta merced celebremo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¡Subamos cimas tan alta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907920"/>
            <a:ext cx="470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765000"/>
            <a:ext cx="5584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una de teñidos de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es de la belleza esenc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cella que todos mi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que: ilumina estas tierr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uí a ver, entrando el veran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cantó por mí y por ell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LBO DlYA H ESTE DlYA H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lYA DEL  ANSARA HAQQA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ESTlRÉY ME-W L-MUDABB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WA NASUQQU R-RUMHA SAQQ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[ALBO DÍA ESTE D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ÍA DE LA ANSARA EN VER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ESTIRÉ MI JUB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QUEBRAREMOS LA LANZA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16:12Z</dcterms:created>
  <dc:creator> </dc:creator>
  <dc:description/>
  <dc:language>en-US</dc:language>
  <cp:lastModifiedBy> </cp:lastModifiedBy>
  <dcterms:modified xsi:type="dcterms:W3CDTF">2007-09-29T01:46:28Z</dcterms:modified>
  <cp:revision>4</cp:revision>
  <dc:subject/>
  <dc:title>Diapositiva 1</dc:title>
</cp:coreProperties>
</file>